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768-C5AA-48D2-91C8-4D8C7001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1F2-1DE3-49A8-9B44-46239634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1CF-6CC5-4FDD-890E-5B76753F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79B-F194-4BFB-A242-D2B4E315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48C-4FF7-4767-95CA-747471B6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E504-C3D0-481B-A4FD-27EB7775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1538-50EC-4E82-9FE8-D3CCC9C3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3EB-FDBE-48C2-B0CF-571BF81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CCB8-C682-4B98-ACE2-EFE5D6F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2F90-ECA3-4094-9A31-7BDCDF3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B259-D3F8-479F-8C21-40CD72A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438-DBA7-48CF-83E5-152984BF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D030-A754-43BF-85C6-9D506F5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5347-FAC3-4081-8097-C0940640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17EE-B72A-47E8-8583-BCE579A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A87-1CB0-474B-BF34-9022E5B6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F90B-FCB3-475D-8706-40E4EB23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E63-17EE-4FDD-B256-D2F89F76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C86-66F3-4BDA-BD5F-3126EAD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AC8-86EB-4E70-B677-349C2D4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73F-D760-4D42-BFC4-7E52DC83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EA5-CBCD-4669-B30B-856726C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1F0-B4DE-4247-BE34-7721B9B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E10-967B-4D18-BE32-0F9E0D4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F169-F95E-4C05-82FE-031DE0CE584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57E7-6C73-4534-A873-E11D245EFA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edf.kg.ac.yu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ултет 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цинск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наук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Крагујевцу</a:t>
            </a:r>
            <a:br>
              <a:rPr sz="2800"/>
            </a:b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Е СТРУКОВНЕ СТУДИЈ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лог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5000" y="5486400"/>
            <a:ext cx="3124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ЕЖБА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066680" y="1752120"/>
            <a:ext cx="7696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изиологија централног нервног сист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Испитивање клинички важних рефлекса код човека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il_fi" descr="STH515PBT11"/>
          <p:cNvPicPr/>
          <p:nvPr/>
        </p:nvPicPr>
        <p:blipFill>
          <a:blip r:embed="rId1"/>
          <a:stretch/>
        </p:blipFill>
        <p:spPr>
          <a:xfrm>
            <a:off x="2819520" y="3505320"/>
            <a:ext cx="279396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14240" y="1371600"/>
            <a:ext cx="6326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спорој адаптацији они могу непрекидно да преносе информацију више сати и зато се зов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ничким рецептор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даптираће се до гаше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мо уколико интензитет дражи која делује остане апсолутно константа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ек за неколико сати или д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85840" y="228240"/>
            <a:ext cx="24382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66"/>
                </a:solidFill>
                <a:latin typeface="Arial"/>
              </a:rPr>
              <a:t>Рефлек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57200" y="837720"/>
            <a:ext cx="6886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Већину активности ЦНС остварује кроз рефлексе. Основна јединица интегрисане нервне активности је </a:t>
            </a: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рефлексни л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се састоји од: рецептора, аферентног неурона, централне синапсе, еферентног неурона, ефекто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и могу би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. Физиолошки (увек су симетрични – исте јачин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2. Патоло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дела рефлекса према броју синапс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моносинапри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олисинапти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одела рефлекса према локализацији рефлекс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екстероцеп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проприоцеп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вегетатив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057400" y="837720"/>
            <a:ext cx="685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Екстероцеп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драж делује на рецепторе у кожи или слузокож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Проприоцеп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рецептори се налазе у самим ефектор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мишићима (дубоки мишићни рефлекси, настају истезањем тетиве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Вегетативни рефлекс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– рецептори су смештени у унутрашњим органим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стваривање рефлекса захтева интегритет рефлексног лу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спитивање рефлекса има клинички значај!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19520" y="3805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Екстероцептивни (површински) рефлекс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66"/>
                </a:solidFill>
                <a:latin typeface="Arial"/>
              </a:rPr>
              <a:t>Кожни рефлекси – плантарни и трбушн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лантарн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– рефлексни лук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tibialis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4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– S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 </a:t>
            </a:r>
            <a:r>
              <a:rPr b="0" lang="sr-CS" sz="2000" spc="-1" strike="noStrike">
                <a:solidFill>
                  <a:srgbClr val="ffff66"/>
                </a:solidFill>
                <a:latin typeface="Arial"/>
              </a:rPr>
              <a:t>Бабинског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је патолошки рефлекс код деце старије од годину дана код којих је завршена мијелинизација и код одраслих особа. Изводи се превлачењем тупом иглом по плантарној страни стопала (од пете, латералном страном стопала према прстима и испод прстиј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изиолошки одговор је плантарна флексија прстиј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толошки одговор (Рефлекс Бабинског ) је дорзална флексија и лепезасто ширење прстиј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il_fi" descr="Babinski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362320" y="23619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Епигастричк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превлачењем тупог предмета од доњег пола стернума (доње ивице ребарног лука) према пупку - долази до контракције горњих делова мишића предњег трбушног зида (увлачење трбуха) – не види се померање пупк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Горњ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превлачењем тупог предмета од доње ивице ребарног лука, пре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д споља према унутра - долази до скретања пупка 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редњи кожни рефлекс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се изазива превлачењем тупог предмета од споља ка унутра пре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 нивоу пупка - долази до скретања пупка 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lb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Доњи кожни рефлекс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 изазива стимулацијом коже 3 прста испод пупка хоризонтално од споља према унутра – померање пупка ка страни на којој се врши дражењ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l_fi" descr="loadBinary"/>
          <p:cNvPicPr/>
          <p:nvPr/>
        </p:nvPicPr>
        <p:blipFill>
          <a:blip r:embed="rId1"/>
          <a:stretch/>
        </p:blipFill>
        <p:spPr>
          <a:xfrm>
            <a:off x="0" y="3276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219320" y="6095880"/>
            <a:ext cx="7924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Физиолошки се ови рефлекси не могу узазвати код гојазних особа и код породиља, а патолошки код запаљенских процеса у трбушној дупљ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62320" y="152280"/>
            <a:ext cx="65530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00"/>
                </a:solidFill>
                <a:uFillTx/>
                <a:latin typeface="Arial"/>
              </a:rPr>
              <a:t>Трбушни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 рефлекси – рефлексни лук –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nn.intercostales 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а рефлексним центрима у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Th 5 – 12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Има их 4 укупн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09680" y="1066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Епигастри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Гор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Сред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Доњ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sr-CS" sz="2400" spc="-1" strike="noStrike" u="sng">
                <a:solidFill>
                  <a:srgbClr val="ffff00"/>
                </a:solidFill>
                <a:uFillTx/>
                <a:latin typeface="Arial"/>
              </a:rPr>
              <a:t>Слузокожни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рефлекси – корнеални и коњуктивал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Корнеални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рефлексни лук 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ферентно влак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горња гран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.trigeminus – a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, рефлексни центар у понсу, еферентно влакно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у моторна влак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n.facialis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– а, а ефектор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m.orbicularis ocu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Корнеални рефлекс се изазива тако што се рожњача додирне парчетом вате (испитаник треба да гледа на супротну страну како би рука испитивача била изван видног поља испитаник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Рефлекс може бити ослабљен или да изостане код особа које носе контактна сочива. Има посебан значај за праћење дубине анестезиј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graphic002008"/>
          <p:cNvPicPr/>
          <p:nvPr/>
        </p:nvPicPr>
        <p:blipFill>
          <a:blip r:embed="rId1"/>
          <a:stretch/>
        </p:blipFill>
        <p:spPr>
          <a:xfrm>
            <a:off x="2743200" y="3124080"/>
            <a:ext cx="472428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3520" y="456840"/>
            <a:ext cx="7620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3. Рефлекси зениц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Испитивање реакције зеница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(pupillae) 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на светл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звођење рефлекса – Испитаник се постави тако да му је једно око у сенци (нпр. заклоњено шаком) а друго око окренуто ка извору светлости. Испитивач треба да заклони другом шаком око које је под утицајем светлости (10- ак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 и онда да нагло склони руку и посматра реакцију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другог ока. Очекивана реакција је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оба ока. Истовремено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неосветљеног ока зове с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консензуална реакција (моноокуларна стимулација)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лук – рецептори (неуроепителни елементи ретине)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.opticus – tractus opticus – colliculus rostralis laminae quadrigeminae –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стфал – Едингерово једро (парасимпатичко једр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n.oculomotoriu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а)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ganglion ciliar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nn.ciliares breve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ефектор (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m.sfinkter pupila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05120" y="533160"/>
            <a:ext cx="7238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ffff00"/>
                </a:solidFill>
                <a:latin typeface="Arial"/>
              </a:rPr>
              <a:t>Испитивање реакције зеница на акомодацију (способност ока за гледање на близину) и конверген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Извођење рефлекса – Испитивач се постави испред испитаника који гледа у даљину и не директно у извор светла. Испитивач постави прст или врх оловке на 1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испред испитаника и помера горе, доле да провери да га испитаник прати погледом. Након тога врх оловке полако приближава носу испитаника. Очекивана реакција је сужавање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pupill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и окретање очних јабучица према унутр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(конвергенција очних јабучиц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лук 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retina – corpus geniculatum lateral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визуелни кортекс – “акомодационо – конвергенциони” регион у близини окуломоторних једара - Вестфал – Едингеровог  једра – парасимпатичка преганглијска влакна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 n.oculomotorius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ganglion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ciliare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– постганглијска парасимпатичка влакна до </a:t>
            </a:r>
            <a:r>
              <a:rPr b="0" lang="sr-Latn-CS" sz="2200" spc="-1" strike="noStrike">
                <a:solidFill>
                  <a:srgbClr val="ffffff"/>
                </a:solidFill>
                <a:latin typeface="Arial"/>
              </a:rPr>
              <a:t>m.cili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514240" y="2286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флекси на истез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Рефлекс 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m.biceps brachii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musculocutaneou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5 –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il_fi" descr="neuro_biceps_reflex2"/>
          <p:cNvPicPr/>
          <p:nvPr/>
        </p:nvPicPr>
        <p:blipFill>
          <a:blip r:embed="rId1"/>
          <a:stretch/>
        </p:blipFill>
        <p:spPr>
          <a:xfrm>
            <a:off x="228600" y="2438280"/>
            <a:ext cx="43434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reflx-c5"/>
          <p:cNvPicPr/>
          <p:nvPr/>
        </p:nvPicPr>
        <p:blipFill>
          <a:blip r:embed="rId2"/>
          <a:stretch/>
        </p:blipFill>
        <p:spPr>
          <a:xfrm>
            <a:off x="464832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14240" y="609480"/>
            <a:ext cx="6629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ензорни рецептори обезбеђују унос информација у нервни систем региструјући такве дражи као што су додир, звук, светлост, бол, хладноћа, топлот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Врсте рецептора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Механ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механичке деформације рецептора или ћелија уз рецептор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Тер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промене у температури (посебни за топлоту, посебни за хладноћу)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Ноцио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цептори за бол, региструју оштећење тки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Електромагнетск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светлост на ретини ок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lang="sr-CS" sz="2100" spc="-1" strike="noStrike">
                <a:solidFill>
                  <a:srgbClr val="ffff00"/>
                </a:solidFill>
                <a:latin typeface="Arial"/>
              </a:rPr>
              <a:t>Хеморецептори</a:t>
            </a:r>
            <a:r>
              <a:rPr b="0" lang="sr-CS" sz="2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– региструју укус у устима, у носу мирис, у артеријској крви ниво кисеоника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666520" y="533520"/>
            <a:ext cx="6248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2. </a:t>
            </a:r>
            <a:r>
              <a:rPr b="0" lang="sr-CS" sz="2200" spc="-1" strike="noStrike">
                <a:solidFill>
                  <a:srgbClr val="ffff66"/>
                </a:solidFill>
                <a:latin typeface="Arial"/>
              </a:rPr>
              <a:t>Рефлекс </a:t>
            </a:r>
            <a:r>
              <a:rPr b="0" lang="sr-Latn-CS" sz="2200" spc="-1" strike="noStrike">
                <a:solidFill>
                  <a:srgbClr val="ffff66"/>
                </a:solidFill>
                <a:latin typeface="Arial"/>
              </a:rPr>
              <a:t>m.triceps brachi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radiali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l_fi" descr="neuro-triceps-reflex1"/>
          <p:cNvPicPr/>
          <p:nvPr/>
        </p:nvPicPr>
        <p:blipFill>
          <a:blip r:embed="rId1"/>
          <a:stretch/>
        </p:blipFill>
        <p:spPr>
          <a:xfrm>
            <a:off x="26668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362320" y="533160"/>
            <a:ext cx="632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3. </a:t>
            </a:r>
            <a:r>
              <a:rPr b="0" lang="sr-CS" sz="2400" spc="-1" strike="noStrike">
                <a:solidFill>
                  <a:srgbClr val="ffff66"/>
                </a:solidFill>
                <a:latin typeface="Arial"/>
              </a:rPr>
              <a:t>Пателарни рефлекс (</a:t>
            </a: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m.quadriceps</a:t>
            </a:r>
            <a:r>
              <a:rPr b="0" lang="sr-CS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.femoralis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 –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il_fi" descr="image002"/>
          <p:cNvPicPr/>
          <p:nvPr/>
        </p:nvPicPr>
        <p:blipFill>
          <a:blip r:embed="rId1"/>
          <a:stretch/>
        </p:blipFill>
        <p:spPr>
          <a:xfrm>
            <a:off x="152280" y="2438280"/>
            <a:ext cx="3619800" cy="3133800"/>
          </a:xfrm>
          <a:prstGeom prst="rect">
            <a:avLst/>
          </a:prstGeom>
          <a:ln w="0">
            <a:noFill/>
          </a:ln>
        </p:spPr>
      </p:pic>
      <p:pic>
        <p:nvPicPr>
          <p:cNvPr id="125" name="il_fi" descr="kneeJerkReflex"/>
          <p:cNvPicPr/>
          <p:nvPr/>
        </p:nvPicPr>
        <p:blipFill>
          <a:blip r:embed="rId2"/>
          <a:stretch/>
        </p:blipFill>
        <p:spPr>
          <a:xfrm>
            <a:off x="3886200" y="2057400"/>
            <a:ext cx="51055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2666880" y="380880"/>
            <a:ext cx="57913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Ахилов рефлекс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флексни лук  -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.tibialis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а рефлексним центрим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5,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1 –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il_fi" descr="image009"/>
          <p:cNvPicPr/>
          <p:nvPr/>
        </p:nvPicPr>
        <p:blipFill>
          <a:blip r:embed="rId1"/>
          <a:stretch/>
        </p:blipFill>
        <p:spPr>
          <a:xfrm>
            <a:off x="2590920" y="19051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150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линички значај испитивања рефле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6629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Користе се за процену степена фацилитације центара у кичменој мождин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одговори се могу појачати при великим лезијама моторног кортекса (мождани удар, тумори...) у мишићима на супротној страни тела (контралатерална страна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флексни одговори се могу смањити или бити одсутни услед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исфункције основних елемената рефлексног лука – ипсилатерално,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504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оштећења (прекида) кортикоспиналног пута – контралатерална стран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429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Различита осетљивост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33360" y="1523880"/>
            <a:ext cx="7010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хваљујући различитој осетљивости рецептори могу да разликују осећаје, тј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ж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аки од основних типова осећаја које доживљавамо (бол, додир, звук...) називамо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одалитетом осећај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но што нервно влакно преноси је 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импул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али како се свако влакно завршава у специфичној тачки онда ми то доживљавамо као неки од модалитета осећај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6320" y="228240"/>
            <a:ext cx="72676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Претварање сензорне дражи у нервни импул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04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ви сензорни рецептори имају једно заједничко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својство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- б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ило који да је тип дражи која делује на рецептор, њен непосредни ефекат се састоји у промени мембранског потенцијала рецептора –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рецепторски потенцијал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sr-CS" sz="2100" spc="-1" strike="noStrike">
                <a:solidFill>
                  <a:srgbClr val="ffffff"/>
                </a:solidFill>
                <a:latin typeface="Arial"/>
              </a:rPr>
              <a:t>Механизам рецепторских потенцијал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1. Механичка деформација рецептора која истеже мембрану и отвара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2. Наношење хемијских супстанци на мембрану кој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такођ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отварају јонске канал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3. Промена температуре мембране ремети њену пропустљивост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Arial"/>
              </a:rPr>
              <a:t>4. Електромагнетни таласи мењају карактеристике мембране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70866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Рецепторски потенцијал Пачинијев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телаш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33720" y="9144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(механорецептор) има централно нервно влакно које се пружа кроз његову срж, а окружено ј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ишеструким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концентричним слојеви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мпресија споља на било ком месту телашца издужује, угиба или на неки други начин деформише централно влак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ам врх централног влакна је немијелинизован, а влакно постаје мијелинизовано одмах након изласка из телашца и уласка у периферни сензорни нер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2286000" y="4000680"/>
            <a:ext cx="60958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52320" y="456840"/>
            <a:ext cx="3886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66"/>
                </a:solidFill>
                <a:latin typeface="Arial"/>
              </a:rPr>
              <a:t>Адаптација рецепто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362320" y="1218960"/>
            <a:ext cx="6781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ви сензорни рецептори имају специјалну карактеристику да се после извесног времена делимично или потпуно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даптирају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на драж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 који начи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примени континуирана сензорна драж, у почетку рецептори одговарају високом фреквенцијом импулса, затим прогресивно мањом фреквенцијом док на крају и не дају одгов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нзорни рецептори се адаптирају у знатно већој мери од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ачинијево телаш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адаптација до гашења унутар неколико стотинки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Рецептори корена дла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нутар једне секу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отидни и аортни барорецепто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око 2 дана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6674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Механизам адаптације рецеп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09680" y="99072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даптација рецептора је индивидуално својство сваког типа рецепт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даптација Пачинијевог телашца се одвија на 2 начи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1. Пачинијево телашце је високоеластична структура тако да када на једну страну телашца нагло делује сила дисторзије, она се у моменту вискозном компонентом телашца преноси на исту страну сржи изазивајући рецепторски потенцијал. За неколико стотинки секунде настаје прерасподела  течности унутар телашца, тако да притисак постаје једнак у целом телашцу; једнак притисак на целом нервном влакну у сржи не изазива даље рецепторски потенциј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да се сила дисторзије отклони са телашца одвија се обрнути догађај. Тако поремећај централног влакна у сржи телашца обавештава о престанку компресиј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437920" y="1447920"/>
            <a:ext cx="6326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2. Спорији механизам адаптације настаје процесом названим </a:t>
            </a:r>
            <a:r>
              <a:rPr b="1" lang="sr-CS" sz="2400" spc="-1" strike="noStrike">
                <a:solidFill>
                  <a:srgbClr val="ffff66"/>
                </a:solidFill>
                <a:latin typeface="Arial"/>
              </a:rPr>
              <a:t>акомодациј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који се одвија у самом нервном влак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тпоставља се да долази до </a:t>
            </a:r>
            <a:r>
              <a:rPr b="0" i="1" lang="sr-CS" sz="2400" spc="-1" strike="noStrike">
                <a:solidFill>
                  <a:srgbClr val="ffff66"/>
                </a:solidFill>
                <a:latin typeface="Arial"/>
              </a:rPr>
              <a:t>инактивације</a:t>
            </a: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CS" sz="2400" spc="-1" strike="noStrike">
                <a:solidFill>
                  <a:srgbClr val="ffff66"/>
                </a:solidFill>
                <a:latin typeface="Arial"/>
              </a:rPr>
              <a:t>канала за натрију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што значи да сам ток струје кроз канале на неки начин узрокује да се они постепено затварај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88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ункција рецептора који се споро адаптирају у откривању трајне јачине дражи –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ТОНИЧ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РЕЦЕПТОР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9680" y="160020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Рецептори који се споро адаптирају трајно преносе импулсе до мозга све док драж постоји (или бар у току неколико минута или сати). Они заправо константно информишу мозак о телесном стању и његовом односу према околин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Нпр. импулси из мишићних вретена и Голџијевог тетивног апарата омогућавају централном нервном систему да у сваком моменту зна стање мишићне контракције, односно оптерећења мишићних тетив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Други типови рецептора који се споро адаптирају су: рецептори макуле вестибуларног апарата, рецептори за бол, хеморецептори каротидних и аортних тела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3:53Z</dcterms:created>
  <dc:creator>Kaca</dc:creator>
  <dc:description/>
  <dc:language>en-US</dc:language>
  <cp:lastModifiedBy>User</cp:lastModifiedBy>
  <dcterms:modified xsi:type="dcterms:W3CDTF">2014-10-01T14:47:46Z</dcterms:modified>
  <cp:revision>78</cp:revision>
  <dc:subject/>
  <dc:title>Медицински факултет у Крагујевцу </dc:title>
</cp:coreProperties>
</file>